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507-DE84-4E7B-9F83-33191906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D78-6719-424C-97FA-FFA4DB1F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81A-4B0E-42FE-8C8E-B97E7F2E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ACE-FE50-4455-8BF1-B665B182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0BBC-7B5D-48C8-8511-4E837497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332F-6510-4D95-BFCF-E9527121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6DF9-D7BE-4CCA-BDBA-72DF4934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0015-3C17-4FD7-93F3-483A01B8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7D59-3F0E-4D9B-9DB8-F4A8A8D7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B7D3-BD60-442B-877A-76EF4F94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CB54-D03C-4C0C-8DC9-1CF8D9F8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310-1168-4F75-A4B0-A24EECDB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8BA7-6B1C-4EBF-9713-92C13F1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39F9-3457-4FC7-BFC5-1ECD494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9409-FE37-4D22-90E6-2514F340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1EEB-6CE1-45E4-A5BC-8D54811E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F8E7-0AC7-450C-903F-7CF1F0EB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A15-855C-4616-B7B0-B05684F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5EA-9F50-4821-B763-CCA2CD7F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8CD-3AD8-43C7-A573-F12159F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92D-DB14-473F-8299-60613DFD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5DF-57A0-4DA3-AD63-C2961119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522-2D18-44B9-91F2-CCDBCFA6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DCE-34CF-4A61-8CCF-5CFC9E3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FE34-A8C2-4983-84AA-E3B7655ED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1E3F-0C76-4AF2-8286-34C5D0149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shistory.org/Declaration/document/index.htm" TargetMode="External"/><Relationship Id="rId2" Type="http://schemas.openxmlformats.org/officeDocument/2006/relationships/hyperlink" Target="http://www.ushistory.org/DECLARATION/revwartimeline.htm" TargetMode="External"/><Relationship Id="rId3" Type="http://schemas.openxmlformats.org/officeDocument/2006/relationships/hyperlink" Target="http://http/www.ushistory.org/DECLARATION/revwartimeline.htm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arly American Histo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Peo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nting, gathering and farming were important parts for the Native American life styl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r, fish, roots, nuts, berries, corn, beans, squash, melons and other crops were e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out the Native American’s history they have been in turmoil with each ot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648320" y="1828800"/>
            <a:ext cx="3657600" cy="3581280"/>
            <a:chOff x="4648320" y="1828800"/>
            <a:chExt cx="3657600" cy="3581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4648320" y="1828800"/>
              <a:ext cx="36576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4648320" y="1828800"/>
              <a:ext cx="365760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lon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 – is a settlement that is ruled by a faraway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e reasons people came to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 freedom, ri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some items people traded or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in, flour, lumber, furs, dried meat &amp; salted f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up own government, wrote laws, elected own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876920" y="1828800"/>
            <a:ext cx="3427200" cy="3840120"/>
            <a:chOff x="4876920" y="1828800"/>
            <a:chExt cx="3427200" cy="384012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4876920" y="1828800"/>
              <a:ext cx="34272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4876920" y="1828800"/>
              <a:ext cx="3427200" cy="384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5029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lonies becoming United States of Ame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Declaration of In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American R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wo ways taxes are raised in the coloni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wo reasons the colonist become frustrated with Eng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wo reasons the Declaration of Independence was wro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ho won the war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w would your life be different if the outcome of the American Revolution differ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0"/>
            <a:ext cx="6324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to complete your webquest on Early American Histo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j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5908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3:07:04Z</dcterms:created>
  <dc:creator>College of Education</dc:creator>
  <dc:description/>
  <dc:language>en-US</dc:language>
  <cp:lastModifiedBy>College of Education</cp:lastModifiedBy>
  <dcterms:modified xsi:type="dcterms:W3CDTF">2009-07-21T13:52:28Z</dcterms:modified>
  <cp:revision>6</cp:revision>
  <dc:subject/>
  <dc:title>Early American History</dc:title>
</cp:coreProperties>
</file>